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5177-BDAA-460B-AF69-3A9360F7489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7CA-EA60-43DB-B7AE-BAE1F238A6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35B-1F69-411D-8D3E-AB4D0D0A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93E-07DA-479F-BE76-C0FD0DF5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4AF-37BB-4894-9E3B-CA4571FB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7E0-B1BF-4221-8647-77429BF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165-E8E8-461A-BA37-3413F5B8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C59-E849-488B-8F4B-B4C978D6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AB3-4945-4EFA-BF74-77816C34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7ED-09F6-4F7D-AC44-F4A85FF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30D-DF98-4BAA-A248-36F53F9A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24D-EC28-40C9-8C24-EE208C0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DC9-DF50-432E-BC19-26083DAB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588-53E0-4244-88B4-A6D3D073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50B7-BF16-434D-BA54-D92E59DB05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15.xml"/><Relationship Id="rId22" Type="http://schemas.openxmlformats.org/officeDocument/2006/relationships/slide" Target="slide14.xml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" Target="slide18.xml"/><Relationship Id="rId26" Type="http://schemas.openxmlformats.org/officeDocument/2006/relationships/slide" Target="slide13.xml"/><Relationship Id="rId27" Type="http://schemas.openxmlformats.org/officeDocument/2006/relationships/slide" Target="slide12.xml"/><Relationship Id="rId28" Type="http://schemas.openxmlformats.org/officeDocument/2006/relationships/slide" Target="slide11.xml"/><Relationship Id="rId29" Type="http://schemas.openxmlformats.org/officeDocument/2006/relationships/slide" Target="slide9.xml"/><Relationship Id="rId30" Type="http://schemas.openxmlformats.org/officeDocument/2006/relationships/slide" Target="slide10.xml"/><Relationship Id="rId31" Type="http://schemas.openxmlformats.org/officeDocument/2006/relationships/slide" Target="slide34.xml"/><Relationship Id="rId32" Type="http://schemas.openxmlformats.org/officeDocument/2006/relationships/slide" Target="slide33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71720" y="214200"/>
            <a:ext cx="71625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ff79ff"/>
                </a:solidFill>
                <a:latin typeface="Impact"/>
              </a:rPr>
              <a:t>Турнир знатоков</a:t>
            </a:r>
            <a:endParaRPr b="0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ff79ff"/>
              </a:solidFill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26920" y="5229360"/>
            <a:ext cx="788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Гребенкин А.Н.,  педагог- организат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МАУ ДО «Центр детского твор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г. Серов Свердлов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7120" y="4357800"/>
            <a:ext cx="8501040" cy="642600"/>
          </a:xfrm>
          <a:prstGeom prst="rect">
            <a:avLst/>
          </a:prstGeom>
          <a:solidFill>
            <a:srgbClr val="3366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Bookman Old Style"/>
              </a:rPr>
              <a:t>Великая Отечественная вой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&amp;Mcy;&amp;acy;&amp;tcy;&amp;iecy;&amp;rcy;&amp;icy;&amp;acy;&amp;lcy;&amp;ycy; &amp;zcy;&amp;acy; &amp;Icy;&amp;yucy;&amp;lcy;&amp;softcy; 2013 &amp;gcy;&amp;ocy;&amp;dcy;&amp;acy; &quot; &amp;Scy;&amp;tcy;&amp;rcy;&amp;acy;&amp;ncy;&amp;icy;&amp;tscy;&amp;acy; 119 &quot; &amp;Dcy;&amp;Icy;&amp;Kcy;&amp;Icy;&amp;Jcy; &amp;Zcy;&amp;Vcy;&amp;IEcy;&amp;Rcy;&amp;SOFTcy; &amp;tcy;&amp;ocy;&amp;chcy;…"/>
          <p:cNvPicPr/>
          <p:nvPr/>
        </p:nvPicPr>
        <p:blipFill>
          <a:blip r:embed="rId1"/>
          <a:stretch/>
        </p:blipFill>
        <p:spPr>
          <a:xfrm>
            <a:off x="2316240" y="2000160"/>
            <a:ext cx="368460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EXIF &amp;dcy;&amp;acy;&amp;ncy;&amp;ncy;&amp;ycy;&amp;iecy; &amp;fcy;&amp;ocy;&amp;tcy;&amp;ocy;&amp;gcy;&amp;rcy;&amp;acy;&amp;fcy;&amp;icy;&amp;icy;"/>
          <p:cNvPicPr/>
          <p:nvPr/>
        </p:nvPicPr>
        <p:blipFill>
          <a:blip r:embed="rId1"/>
          <a:stretch/>
        </p:blipFill>
        <p:spPr>
          <a:xfrm>
            <a:off x="500040" y="300024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57120" y="357120"/>
            <a:ext cx="85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 мужество и героизм, проявленные в годы Великой Отечественной войны, звание Героя было присвоено не только людям, но  и город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колько городов Советского Союза носили это звание? Назови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1680" y="47862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161616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watermark_300x"/>
          <p:cNvPicPr/>
          <p:nvPr/>
        </p:nvPicPr>
        <p:blipFill>
          <a:blip r:embed="rId3"/>
          <a:stretch/>
        </p:blipFill>
        <p:spPr>
          <a:xfrm>
            <a:off x="7429680" y="421488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2"/>
          <p:cNvSpPr/>
          <p:nvPr/>
        </p:nvSpPr>
        <p:spPr>
          <a:xfrm>
            <a:off x="5429160" y="3357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Од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54291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вастоп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5500800" y="4143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го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5500800" y="4572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рестск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еп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5500800" y="5072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вороссий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5500800" y="54291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5500800" y="5857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429680" y="328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ч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700092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урма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5500800" y="6286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оле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64388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24"/>
          <p:cNvSpPr/>
          <p:nvPr/>
        </p:nvSpPr>
        <p:spPr>
          <a:xfrm>
            <a:off x="7358040" y="2928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25"/>
          <p:cNvSpPr/>
          <p:nvPr/>
        </p:nvSpPr>
        <p:spPr>
          <a:xfrm>
            <a:off x="5429160" y="29289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79280" y="500040"/>
            <a:ext cx="878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watermark_300x"/>
          <p:cNvPicPr/>
          <p:nvPr/>
        </p:nvPicPr>
        <p:blipFill>
          <a:blip r:embed="rId2"/>
          <a:stretch/>
        </p:blipFill>
        <p:spPr>
          <a:xfrm>
            <a:off x="6429240" y="5143680"/>
            <a:ext cx="1366920" cy="1460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214200" y="557208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Иван Иванович Федюн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2786040" y="214200"/>
            <a:ext cx="61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Советский военачальник, генерал армии (1955)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ерой Советского Союза (1939)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ерой Монгольской Народной Республ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Его именем названа улица в поселке Тугулым Свердлов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144360" y="144360"/>
            <a:ext cx="2571840" cy="37720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2786040" y="1714680"/>
            <a:ext cx="6143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Награждён: 4 орденами Ленина, 5 орденами Красного Знамени, 2 орденами Суворова 1-й ст., 2 орденами Кутузова 1-й ст., орденами Красной Звезды, «За службу Родине в Вооружённых Силах СССР» 3-й ст., медалями. Награждён иностранными ордена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ДР — Золотой звездой президента и «За заслуги перед Отечеством» 1-й ст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МНР — 2-мя Сухэ-Батора, 2-мя «За боевые заслуги» и Боевого Красного Знаме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ПНР — «Возрождения Польши», «Виртути Милитари» 4-й ст., Грюнвальдским крестом 2-й 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14200" y="47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военача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000080" y="48578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93366"/>
                </a:solidFill>
                <a:latin typeface="Tahoma"/>
              </a:rPr>
              <a:t>Нина Кукове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watermark_300x"/>
          <p:cNvPicPr/>
          <p:nvPr/>
        </p:nvPicPr>
        <p:blipFill>
          <a:blip r:embed="rId2"/>
          <a:stretch/>
        </p:blipFill>
        <p:spPr>
          <a:xfrm>
            <a:off x="6429240" y="49291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857160" y="350028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звали юную разведчицу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231840" y="500040"/>
            <a:ext cx="3840120" cy="27860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8"/>
          <p:cNvSpPr/>
          <p:nvPr/>
        </p:nvSpPr>
        <p:spPr>
          <a:xfrm>
            <a:off x="4357800" y="42876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Ленинградскую пионер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еликая Отечественная война застала в деревушке Нечепер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Как только в деревню вошел враг, она начала помогать партизан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тала разведчиц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Много славных боевых дел совершила девочка, но однажды ушла в разведку и не вернулась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28760" y="4572000"/>
            <a:ext cx="602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Климент Ефремович Ворошил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watermark_300x"/>
          <p:cNvPicPr/>
          <p:nvPr/>
        </p:nvPicPr>
        <p:blipFill>
          <a:blip r:embed="rId2"/>
          <a:stretch/>
        </p:blipFill>
        <p:spPr>
          <a:xfrm>
            <a:off x="7643880" y="4643280"/>
            <a:ext cx="1071360" cy="114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3357720" y="357120"/>
            <a:ext cx="54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годы Великой Отечественной войны он являлся членом Государственного Комитета Обороны и Ставки Верховного Главнокомандова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июле-августе 1941 г. — главнокомандующим войсками Северо-Западного стратегического направл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сентябре – командующим войсками Ленинградского фронта.</a:t>
            </a:r>
            <a:r>
              <a:rPr b="1" lang="ru-RU" sz="1800" spc="-1" strike="noStrike">
                <a:solidFill>
                  <a:srgbClr val="19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Дважды Герой Советского Союза и Герой Социалистического Тру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325680" y="3429000"/>
            <a:ext cx="581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 главнокомандующего и его наград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500040" y="51436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Награжден восемью орденами Лени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шестью орденами Красного Знам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орденом Суворова 1-й степ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медалями СССР и медалями иностранных государ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283212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428760" y="6000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ahoma"/>
                <a:ea typeface="Tahoma"/>
              </a:rPr>
              <a:t>Иван Степанович Кон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6" descr="watermark_300x"/>
          <p:cNvPicPr/>
          <p:nvPr/>
        </p:nvPicPr>
        <p:blipFill>
          <a:blip r:embed="rId2"/>
          <a:stretch/>
        </p:blipFill>
        <p:spPr>
          <a:xfrm>
            <a:off x="6572160" y="50720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stomaster: &amp;Mcy;&amp;acy;&amp;rcy;&amp;shcy;&amp;acy;&amp;lcy; &amp;Kcy;&amp;ocy;&amp;ncy;&amp;iecy;&amp;vcy;"/>
          <p:cNvPicPr/>
          <p:nvPr/>
        </p:nvPicPr>
        <p:blipFill>
          <a:blip r:embed="rId3"/>
          <a:stretch/>
        </p:blipFill>
        <p:spPr>
          <a:xfrm>
            <a:off x="468360" y="404640"/>
            <a:ext cx="3292560" cy="44643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7"/>
          <p:cNvSpPr/>
          <p:nvPr/>
        </p:nvSpPr>
        <p:spPr>
          <a:xfrm>
            <a:off x="3995640" y="33336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В военных кругах всегда пользовался репутацией твердого и решительного командующ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ногие из нас по-хорошему завидовали его энергии и активности. При любых обстоятельствах он стремился увидеть поле сражения собственными глазами и очень тщательно готовил каждую операцию. Стараясь вникать во все её детали, он буквально вгонял в пот своих подчиненных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( Генерал армии С.М.Штемен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 мая 1944 и до конца войны командовал 1-м Украинским фро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57120" y="5000760"/>
            <a:ext cx="52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дважды Героя Советского Союз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6" descr="watermark_300x"/>
          <p:cNvPicPr/>
          <p:nvPr/>
        </p:nvPicPr>
        <p:blipFill>
          <a:blip r:embed="rId2"/>
          <a:stretch/>
        </p:blipFill>
        <p:spPr>
          <a:xfrm>
            <a:off x="7500960" y="4643280"/>
            <a:ext cx="1136520" cy="1214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857160" y="5786280"/>
            <a:ext cx="596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61616"/>
                </a:solidFill>
                <a:latin typeface="Times New Roman"/>
              </a:rPr>
              <a:t>Леонид Александрович Говор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9" descr="&amp;Gcy;&amp;ocy;&amp;vcy;&amp;ocy;&amp;rcy;&amp;ocy;&amp;vcy; &amp;Lcy;&amp;iecy;&amp;ocy;&amp;ncy;&amp;icy;&amp;dcy; &amp;Acy;&amp;lcy;&amp;iecy;&amp;kcy;&amp;scy;&amp;acy;&amp;ncy;&amp;dcy;&amp;rcy;&amp;ocy;&amp;vcy;&amp;icy;&amp;chcy; - &amp;Mcy;&amp;acy;&amp;rcy;&amp;shcy;&amp;acy;&amp;lcy; &amp;Scy;&amp;ocy;&amp;vcy;&amp;iecy;&amp;tcy;&amp;scy;&amp;kcy;&amp;ocy;&amp;gcy;&amp;ocy; &amp;Scy;&amp;ocy;&amp;yucy;&amp;zcy;&amp;acy; &quot; MILDAY.RU - &amp;Scy;&amp;acy;&amp;jcy;&amp;tcy; &amp;ocy;&amp;bcy;&amp;ocy; &amp;vcy;&amp;scy;&amp;iocy;&amp;mcy; &amp;icy;&amp;ncy;&amp;tcy;&amp;iecy;&amp;rcy;&amp;iecy;&amp;scy;&amp;ncy;&amp;ocy;&amp;mcy; &amp;vcy; &amp;vcy;&amp;ocy;&amp;iecy;&amp;ncy;&amp;ncy;&amp;ocy;&amp;jcy; &amp;icy;&amp;scy;&amp;tcy;&amp;ocy;&amp;rcy;&amp;icy;&amp;icy;."/>
          <p:cNvPicPr/>
          <p:nvPr/>
        </p:nvPicPr>
        <p:blipFill>
          <a:blip r:embed="rId3"/>
          <a:stretch/>
        </p:blipFill>
        <p:spPr>
          <a:xfrm>
            <a:off x="250920" y="333360"/>
            <a:ext cx="3035160" cy="4160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3929040" y="374400"/>
            <a:ext cx="48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Генерал-лейтенан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«твёрдой воли, требовательный, энергичный, храбрый и организованный командующий войскам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(Из боевой характеристики, подписанной Г.К.Жуковы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С его именем связано снятие блокады Ленингр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Кавалер ордена «Побе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214200" y="4929120"/>
            <a:ext cx="67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 Кавалера ордена «Победа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42920" y="5500800"/>
            <a:ext cx="650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7273a"/>
                </a:solidFill>
                <a:latin typeface="Times New Roman"/>
                <a:ea typeface="Tahoma"/>
              </a:rPr>
              <a:t>Георгий Константинович Жук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watermark_300x"/>
          <p:cNvPicPr/>
          <p:nvPr/>
        </p:nvPicPr>
        <p:blipFill>
          <a:blip r:embed="rId2"/>
          <a:stretch/>
        </p:blipFill>
        <p:spPr>
          <a:xfrm>
            <a:off x="7358040" y="42861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4000680" y="164304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В честь его  в городах и сёлах России названы 190 проспектов, улиц, площад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и переул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В 1994 году в городе Ирбит Свердловской области ему открыт памятник в полный р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4000680" y="285840"/>
            <a:ext cx="47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Совместно с Краснознаменным Балтийским флотом и при активной помощи трудящихся Ленинграда остановил врага, сорвав его попытки захватить город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400068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Дважды удостоен высшего советского военного ордена «Побед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571680" y="409680"/>
            <a:ext cx="305892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полково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550080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Константин Константинович Рокоссовск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watermark_300x"/>
          <p:cNvPicPr/>
          <p:nvPr/>
        </p:nvPicPr>
        <p:blipFill>
          <a:blip r:embed="rId2"/>
          <a:stretch/>
        </p:blipFill>
        <p:spPr>
          <a:xfrm>
            <a:off x="7286760" y="4500720"/>
            <a:ext cx="1366560" cy="1328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&amp;CHcy;&amp;iecy;&amp;lcy;&amp;ocy;&amp;vcy;&amp;iecy;&amp;kcy; &amp;scy; &amp;rcy;&amp;ucy;&amp;zhcy;&amp;softcy;&amp;iecy;&amp;m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250920" y="333360"/>
            <a:ext cx="2990880" cy="4000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3492360" y="333360"/>
            <a:ext cx="504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ын железнодорожного машиниста, поляка по национальности, и русской учительницы. Участник Первой мировой войны, заслужил четыре Георгиевских крес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ильный, волевой и одновременно сдержанный, он создавал вокруг себя атмосферу взаимоуважения. Он был одним из тех, кто неудержим в наступлении. Маршал СССР, дважды Герой Советского Сою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1945 г. ему выпала честь командовать Парадом Победы в Москве 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Маршала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0" y="5572080"/>
            <a:ext cx="642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Родион Яковлевич Малиновск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watermark_300x"/>
          <p:cNvPicPr/>
          <p:nvPr/>
        </p:nvPicPr>
        <p:blipFill>
          <a:blip r:embed="rId2"/>
          <a:stretch/>
        </p:blipFill>
        <p:spPr>
          <a:xfrm>
            <a:off x="7286760" y="4429080"/>
            <a:ext cx="1366560" cy="146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&amp;Ocy;&amp;dcy;&amp;iecy;&amp;scy;&amp;scy;&amp;acy; 360 - &amp;Vcy;&amp;icy;&amp;rcy;&amp;tcy;&amp;ucy;&amp;acy;&amp;lcy;&amp;softcy;&amp;ncy;&amp;ycy;&amp;jcy; &amp;tcy;&amp;ucy;&amp;rcy;, &amp;pcy;&amp;acy;&amp;ncy;&amp;ocy;&amp;rcy;&amp;acy;&amp;mcy;&amp;ncy;&amp;ycy;&amp;iecy; &amp;fcy;&amp;ocy;&amp;tcy;&amp;ocy;&amp;gcy;&amp;rcy;&amp;acy;&amp;fcy;&amp;icy;&amp;icy; Odessa 360 - Virtual tour, panoramic photography"/>
          <p:cNvPicPr/>
          <p:nvPr/>
        </p:nvPicPr>
        <p:blipFill>
          <a:blip r:embed="rId3"/>
          <a:stretch/>
        </p:blipFill>
        <p:spPr>
          <a:xfrm>
            <a:off x="395280" y="549360"/>
            <a:ext cx="2857680" cy="3828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3357720" y="620640"/>
            <a:ext cx="560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частник 1 мировой войн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ражданской войны в Росс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ражданской войны в Исп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ыл единственным крупным советским военачальником Великой Отечественной, который свободно разговаривал на нескольких европейских языках. Особенно хорошо владел французским и испанск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влекался игрой в шахм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омандовал 2-м Украинским фро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1957 – 67 гг. был министром обороны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авалер ордена «Побе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военачальника В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052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508720" y="393372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watermark_300x"/>
          <p:cNvPicPr/>
          <p:nvPr/>
        </p:nvPicPr>
        <p:blipFill>
          <a:blip r:embed="rId2"/>
          <a:stretch/>
        </p:blipFill>
        <p:spPr>
          <a:xfrm>
            <a:off x="6875640" y="4581360"/>
            <a:ext cx="1368360" cy="1460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3429000" y="1071720"/>
            <a:ext cx="535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школьницу, котор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начала блокады Ленингр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ла дневник в записной книж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чти вся её семья погиб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декабря 1941 года по май 194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357120" y="514368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Таня Савиче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571680" y="714240"/>
            <a:ext cx="260964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20760" y="1514520"/>
            <a:ext cx="850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« Как слов не выбросить из песн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сть очень грустная он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вырезать из ленты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Фрагмент с названием «Война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Л.Сен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24000" y="4046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ие имя и фамилия зашифров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звании советского танка «ИС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49417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2500200" y="5357880"/>
            <a:ext cx="37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Иосиф Сталин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9" descr="&quot;&amp;Ecy;&amp;ncy;&amp;tscy;&amp;icy;&amp;kcy;&amp;lcy;&amp;ocy;&amp;pcy;&amp;iecy;&amp;dcy;&amp;icy;&amp;yacy; &amp;icy;&amp;scy;&amp;tcy;&amp;ocy;&amp;rcy;&amp;icy;&amp;icy; &amp;Rcy;&amp;ocy;&amp;scy;&amp;scy;&amp;icy;&amp;icy;&quot;: &amp;tcy;&amp;iecy;&amp;mcy;&amp;ycy;"/>
          <p:cNvPicPr/>
          <p:nvPr/>
        </p:nvPicPr>
        <p:blipFill>
          <a:blip r:embed="rId3"/>
          <a:stretch/>
        </p:blipFill>
        <p:spPr>
          <a:xfrm>
            <a:off x="2411280" y="1773360"/>
            <a:ext cx="407700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79280" y="189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советский город, в честь которого названа площадь в Париже в пам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великой победе над фашизм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6" descr="watermark_300x"/>
          <p:cNvPicPr/>
          <p:nvPr/>
        </p:nvPicPr>
        <p:blipFill>
          <a:blip r:embed="rId2"/>
          <a:stretch/>
        </p:blipFill>
        <p:spPr>
          <a:xfrm>
            <a:off x="7451640" y="45813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1547640" y="5805360"/>
            <a:ext cx="56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Сталингра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9" descr="https://upload.wikimedia.org/wikipedia/commons/thumb/b/b3/Place_de_la_Bataille_de_Stalingrad_-_La_Rotonde.jpg/220px-Place_de_la_Bataille_de_Stalingrad_-_La_Rotonde.jpg"/>
          <p:cNvPicPr/>
          <p:nvPr/>
        </p:nvPicPr>
        <p:blipFill>
          <a:blip r:embed="rId3"/>
          <a:stretch/>
        </p:blipFill>
        <p:spPr>
          <a:xfrm>
            <a:off x="1895400" y="2071800"/>
            <a:ext cx="4788000" cy="35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84360" y="26028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дин из домов Волгограда носит фамилию сержа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2"/>
          <a:stretch/>
        </p:blipFill>
        <p:spPr>
          <a:xfrm>
            <a:off x="7451640" y="45086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714680" y="5732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Дом Пав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9" descr="&amp;Pcy;&amp;ucy;&amp;bcy;&amp;lcy;&amp;icy;&amp;kcy;&amp;acy;&amp;tscy;&amp;icy;&amp;icy; &amp;Dcy;&amp;mcy;&amp;icy;&amp;tcy;&amp;rcy;67 - &amp;Fcy;&amp;ocy;&amp;rcy;&amp;ucy;&amp;mcy; &amp;Scy;&amp;iecy;&amp;ncy;&amp;icy;&amp;tscy;&amp;acy;.&amp;rcy;&amp;ucy; - &amp;Scy;&amp;tcy;&amp;rcy;&amp;acy;&amp;ncy;&amp;icy;&amp;tscy;&amp;acy; 12"/>
          <p:cNvPicPr/>
          <p:nvPr/>
        </p:nvPicPr>
        <p:blipFill>
          <a:blip r:embed="rId3"/>
          <a:stretch/>
        </p:blipFill>
        <p:spPr>
          <a:xfrm>
            <a:off x="1835280" y="1844640"/>
            <a:ext cx="500508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Горючая самовоспламеняющаяся смес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налитая в обыкновенную стеклянную бутыл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носила имя наркома иностранных дел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watermark_300x"/>
          <p:cNvPicPr/>
          <p:nvPr/>
        </p:nvPicPr>
        <p:blipFill>
          <a:blip r:embed="rId1"/>
          <a:stretch/>
        </p:blipFill>
        <p:spPr>
          <a:xfrm>
            <a:off x="7236000" y="45086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1571760" y="5732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Коктейль Молото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9" descr="&quot;&amp;Pcy;&amp;ocy;&amp;gcy;&amp;rcy;&amp;iecy;&amp;bcy;&amp;ocy;&amp;kcy;&quot; &amp; Pixsar - &quot;&amp;Kcy;&amp;ocy;&amp;kcy;&amp;tcy;&amp;iecy;&amp;jcy;&amp;lcy;&amp;softcy; &amp;Mcy;&amp;ocy;&amp;lcy;&amp;ocy;&amp;tcy;&amp;ocy;&amp;vcy;&amp;acy;&quot; &amp;vcy;&amp;mcy;&amp;iecy;&amp;scy;&amp;tcy;&amp;ocy; &amp;vcy;&amp;ocy;&amp;dcy;&amp;kcy;&amp;icy;"/>
          <p:cNvPicPr/>
          <p:nvPr/>
        </p:nvPicPr>
        <p:blipFill>
          <a:blip r:embed="rId2"/>
          <a:stretch/>
        </p:blipFill>
        <p:spPr>
          <a:xfrm>
            <a:off x="2000160" y="1994040"/>
            <a:ext cx="442908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6" descr="watermark_300x"/>
          <p:cNvPicPr/>
          <p:nvPr/>
        </p:nvPicPr>
        <p:blipFill>
          <a:blip r:embed="rId1"/>
          <a:stretch/>
        </p:blipFill>
        <p:spPr>
          <a:xfrm>
            <a:off x="6286680" y="48578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1000080" y="5500800"/>
            <a:ext cx="48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Блокадный трамва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785880" y="400068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символ жизни блокадного Ленингра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4272120" cy="29289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7"/>
          <p:cNvSpPr/>
          <p:nvPr/>
        </p:nvSpPr>
        <p:spPr>
          <a:xfrm>
            <a:off x="4857840" y="42876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н служил не только транспортным средством, но и перевозил грузы, почту, солдат, доставлял раненых в больницы, поэтому прекращение его движения сильно повлияло на моральный дух горожа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0720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5643720"/>
            <a:ext cx="521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Мемориал «Цветок жизни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285840" y="43578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амятник - часть Зеленого пояса слав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3998880" cy="39988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7"/>
          <p:cNvSpPr/>
          <p:nvPr/>
        </p:nvSpPr>
        <p:spPr>
          <a:xfrm>
            <a:off x="4357800" y="357120"/>
            <a:ext cx="450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Каменная ромашка высот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15 метров с 5-ю лепест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«Пусть всегда будет солнце»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и четыре слова из извест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етской песни размещены на четырех лепестка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на пятом – улыбающееся юное лиц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4357800" y="2643120"/>
            <a:ext cx="44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Является частью Зеленого пояса Славы, который протянулся по бывшему рубежу обороны Ленингра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143680"/>
            <a:ext cx="1366920" cy="1460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285840" y="4857840"/>
            <a:ext cx="5214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Блокадный храм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Церковь во имя Успени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Пресвятой Богородицы.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714240" y="392904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ещё называют эту церковь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7"/>
          <p:cNvSpPr/>
          <p:nvPr/>
        </p:nvSpPr>
        <p:spPr>
          <a:xfrm>
            <a:off x="4643280" y="42876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а церковь — единственный религиозный памятник войне</a:t>
            </a:r>
            <a:r>
              <a:rPr b="0" lang="ru-RU" sz="2000" spc="-1" strike="noStrike">
                <a:solidFill>
                  <a:srgbClr val="16161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4643280" y="1285920"/>
            <a:ext cx="428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Рядом с ней в годы войны массово хоронили умерших от голода жителей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4643280" y="24289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Её называют храмом памяти Ленинградской блок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6" descr="watermark_300x"/>
          <p:cNvPicPr/>
          <p:nvPr/>
        </p:nvPicPr>
        <p:blipFill>
          <a:blip r:embed="rId1"/>
          <a:stretch/>
        </p:blipFill>
        <p:spPr>
          <a:xfrm>
            <a:off x="8001000" y="4929120"/>
            <a:ext cx="928800" cy="99216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9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95280" y="5565600"/>
            <a:ext cx="574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Надпись на школе № 210 была восстановлена в 1962 году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2"/>
          <a:stretch/>
        </p:blipFill>
        <p:spPr>
          <a:xfrm>
            <a:off x="2000160" y="1428840"/>
            <a:ext cx="4572000" cy="29383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0"/>
          <p:cNvSpPr/>
          <p:nvPr/>
        </p:nvSpPr>
        <p:spPr>
          <a:xfrm>
            <a:off x="214200" y="2142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«Граждане! При артобстреле эта сторона улицы наиболее опас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Такие предупреждения сохранились на 6 улицах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годы блокады они спасли не одну жизнь горож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285840" y="4429080"/>
            <a:ext cx="741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В каком году восстановлена эта надпись  и где она установлен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214200" y="51436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Памятник погибшим матерям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Адрес: г.Санкт- Петербург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ул. Почтамтская, 1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8423280" y="614376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watermark_300x"/>
          <p:cNvPicPr/>
          <p:nvPr/>
        </p:nvPicPr>
        <p:blipFill>
          <a:blip r:embed="rId1"/>
          <a:stretch/>
        </p:blipFill>
        <p:spPr>
          <a:xfrm>
            <a:off x="7500960" y="442908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428760" y="4000680"/>
            <a:ext cx="70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называется этот памятник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где он установлен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5775480" cy="37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000680" y="1214280"/>
            <a:ext cx="464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Этот композитор в первые дни войны написал песню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под которую с Белорусского вокзала  уходили на фронт эшелоны с солда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6" descr="watermark_300x"/>
          <p:cNvPicPr/>
          <p:nvPr/>
        </p:nvPicPr>
        <p:blipFill>
          <a:blip r:embed="rId1"/>
          <a:stretch/>
        </p:blipFill>
        <p:spPr>
          <a:xfrm>
            <a:off x="7500960" y="43578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500040" y="5572080"/>
            <a:ext cx="610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  <a:ea typeface="Tahoma"/>
              </a:rPr>
              <a:t>Александр Васильевич Александ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  <a:ea typeface="Tahoma"/>
              </a:rPr>
              <a:t>«Вставай, страна огромна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3079800" cy="38736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8"/>
          <p:cNvSpPr/>
          <p:nvPr/>
        </p:nvSpPr>
        <p:spPr>
          <a:xfrm>
            <a:off x="428760" y="4286160"/>
            <a:ext cx="614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композитор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его произведе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>
            <a:hlinkClick r:id="rId1" action="ppaction://hlinksldjump"/>
          </p:cNvPr>
          <p:cNvSpPr/>
          <p:nvPr/>
        </p:nvSpPr>
        <p:spPr>
          <a:xfrm>
            <a:off x="230508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0" y="26028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0" y="1197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Слава героям!!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21319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0" y="3068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Их именами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0" y="40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Не зараст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народная троп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4920" y="50007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Музы в шинел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85840" y="42876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Этих дней не смолкнет сла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12">
            <a:hlinkClick r:id="rId2" action="ppaction://hlinksldjump"/>
          </p:cNvPr>
          <p:cNvSpPr/>
          <p:nvPr/>
        </p:nvSpPr>
        <p:spPr>
          <a:xfrm>
            <a:off x="367200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13">
            <a:hlinkClick r:id="rId3" action="ppaction://hlinksldjump"/>
          </p:cNvPr>
          <p:cNvSpPr/>
          <p:nvPr/>
        </p:nvSpPr>
        <p:spPr>
          <a:xfrm>
            <a:off x="504036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14">
            <a:hlinkClick r:id="rId4" action="ppaction://hlinksldjump"/>
          </p:cNvPr>
          <p:cNvSpPr/>
          <p:nvPr/>
        </p:nvSpPr>
        <p:spPr>
          <a:xfrm>
            <a:off x="640872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5">
            <a:hlinkClick r:id="rId5" action="ppaction://hlinksldjump"/>
          </p:cNvPr>
          <p:cNvSpPr/>
          <p:nvPr/>
        </p:nvSpPr>
        <p:spPr>
          <a:xfrm>
            <a:off x="774072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6">
            <a:hlinkClick r:id="rId6" action="ppaction://hlinksldjump"/>
          </p:cNvPr>
          <p:cNvSpPr/>
          <p:nvPr/>
        </p:nvSpPr>
        <p:spPr>
          <a:xfrm>
            <a:off x="23209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7">
            <a:hlinkClick r:id="rId7" action="ppaction://hlinksldjump"/>
          </p:cNvPr>
          <p:cNvSpPr/>
          <p:nvPr/>
        </p:nvSpPr>
        <p:spPr>
          <a:xfrm>
            <a:off x="36781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8">
            <a:hlinkClick r:id="rId8" action="ppaction://hlinksldjump"/>
          </p:cNvPr>
          <p:cNvSpPr/>
          <p:nvPr/>
        </p:nvSpPr>
        <p:spPr>
          <a:xfrm>
            <a:off x="503568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9">
            <a:hlinkClick r:id="rId9" action="ppaction://hlinksldjump"/>
          </p:cNvPr>
          <p:cNvSpPr/>
          <p:nvPr/>
        </p:nvSpPr>
        <p:spPr>
          <a:xfrm>
            <a:off x="639288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20">
            <a:hlinkClick r:id="rId10" action="ppaction://hlinksldjump"/>
          </p:cNvPr>
          <p:cNvSpPr/>
          <p:nvPr/>
        </p:nvSpPr>
        <p:spPr>
          <a:xfrm>
            <a:off x="77407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26">
            <a:hlinkClick r:id="rId11" action="ppaction://hlinksldjump"/>
          </p:cNvPr>
          <p:cNvSpPr/>
          <p:nvPr/>
        </p:nvSpPr>
        <p:spPr>
          <a:xfrm>
            <a:off x="230508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27">
            <a:hlinkClick r:id="rId12" action="ppaction://hlinksldjump"/>
          </p:cNvPr>
          <p:cNvSpPr/>
          <p:nvPr/>
        </p:nvSpPr>
        <p:spPr>
          <a:xfrm>
            <a:off x="367200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28">
            <a:hlinkClick r:id="rId13" action="ppaction://hlinksldjump"/>
          </p:cNvPr>
          <p:cNvSpPr/>
          <p:nvPr/>
        </p:nvSpPr>
        <p:spPr>
          <a:xfrm>
            <a:off x="504036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29">
            <a:hlinkClick r:id="rId14" action="ppaction://hlinksldjump"/>
          </p:cNvPr>
          <p:cNvSpPr/>
          <p:nvPr/>
        </p:nvSpPr>
        <p:spPr>
          <a:xfrm>
            <a:off x="640872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30">
            <a:hlinkClick r:id="rId15" action="ppaction://hlinksldjump"/>
          </p:cNvPr>
          <p:cNvSpPr/>
          <p:nvPr/>
        </p:nvSpPr>
        <p:spPr>
          <a:xfrm>
            <a:off x="774072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31">
            <a:hlinkClick r:id="rId16" action="ppaction://hlinksldjump"/>
          </p:cNvPr>
          <p:cNvSpPr/>
          <p:nvPr/>
        </p:nvSpPr>
        <p:spPr>
          <a:xfrm>
            <a:off x="230508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32">
            <a:hlinkClick r:id="rId17" action="ppaction://hlinksldjump"/>
          </p:cNvPr>
          <p:cNvSpPr/>
          <p:nvPr/>
        </p:nvSpPr>
        <p:spPr>
          <a:xfrm>
            <a:off x="367200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33">
            <a:hlinkClick r:id="rId18" action="ppaction://hlinksldjump"/>
          </p:cNvPr>
          <p:cNvSpPr/>
          <p:nvPr/>
        </p:nvSpPr>
        <p:spPr>
          <a:xfrm>
            <a:off x="504036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34">
            <a:hlinkClick r:id="rId19" action="ppaction://hlinksldjump"/>
          </p:cNvPr>
          <p:cNvSpPr/>
          <p:nvPr/>
        </p:nvSpPr>
        <p:spPr>
          <a:xfrm>
            <a:off x="640872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35">
            <a:hlinkClick r:id="rId20" action="ppaction://hlinksldjump"/>
          </p:cNvPr>
          <p:cNvSpPr/>
          <p:nvPr/>
        </p:nvSpPr>
        <p:spPr>
          <a:xfrm>
            <a:off x="774072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36">
            <a:hlinkClick r:id="rId21" action="ppaction://hlinksldjump"/>
          </p:cNvPr>
          <p:cNvSpPr/>
          <p:nvPr/>
        </p:nvSpPr>
        <p:spPr>
          <a:xfrm>
            <a:off x="230508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37">
            <a:hlinkClick r:id="rId22" action="ppaction://hlinksldjump"/>
          </p:cNvPr>
          <p:cNvSpPr/>
          <p:nvPr/>
        </p:nvSpPr>
        <p:spPr>
          <a:xfrm>
            <a:off x="367200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38">
            <a:hlinkClick r:id="rId23" action="ppaction://hlinksldjump"/>
          </p:cNvPr>
          <p:cNvSpPr/>
          <p:nvPr/>
        </p:nvSpPr>
        <p:spPr>
          <a:xfrm>
            <a:off x="504036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39">
            <a:hlinkClick r:id="rId24" action="ppaction://hlinksldjump"/>
          </p:cNvPr>
          <p:cNvSpPr/>
          <p:nvPr/>
        </p:nvSpPr>
        <p:spPr>
          <a:xfrm>
            <a:off x="640872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0">
            <a:hlinkClick r:id="rId25" action="ppaction://hlinksldjump"/>
          </p:cNvPr>
          <p:cNvSpPr/>
          <p:nvPr/>
        </p:nvSpPr>
        <p:spPr>
          <a:xfrm>
            <a:off x="774072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41">
            <a:hlinkClick r:id="rId26" action="ppaction://hlinksldjump"/>
          </p:cNvPr>
          <p:cNvSpPr/>
          <p:nvPr/>
        </p:nvSpPr>
        <p:spPr>
          <a:xfrm>
            <a:off x="774072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2">
            <a:hlinkClick r:id="rId27" action="ppaction://hlinksldjump"/>
          </p:cNvPr>
          <p:cNvSpPr/>
          <p:nvPr/>
        </p:nvSpPr>
        <p:spPr>
          <a:xfrm>
            <a:off x="640872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3">
            <a:hlinkClick r:id="rId28" action="ppaction://hlinksldjump"/>
          </p:cNvPr>
          <p:cNvSpPr/>
          <p:nvPr/>
        </p:nvSpPr>
        <p:spPr>
          <a:xfrm>
            <a:off x="504036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44">
            <a:hlinkClick r:id="rId29" action="ppaction://hlinksldjump"/>
          </p:cNvPr>
          <p:cNvSpPr/>
          <p:nvPr/>
        </p:nvSpPr>
        <p:spPr>
          <a:xfrm>
            <a:off x="367200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45">
            <a:hlinkClick r:id="rId30" action="ppaction://hlinksldjump"/>
          </p:cNvPr>
          <p:cNvSpPr/>
          <p:nvPr/>
        </p:nvSpPr>
        <p:spPr>
          <a:xfrm>
            <a:off x="230508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142920" y="23572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Полководц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ятно 1 41">
            <a:hlinkClick r:id="rId31" action="ppaction://hlinksldjump"/>
          </p:cNvPr>
          <p:cNvSpPr/>
          <p:nvPr/>
        </p:nvSpPr>
        <p:spPr>
          <a:xfrm>
            <a:off x="1714680" y="6143760"/>
            <a:ext cx="1500120" cy="428400"/>
          </a:xfrm>
          <a:prstGeom prst="irregularSeal1">
            <a:avLst/>
          </a:prstGeom>
          <a:solidFill>
            <a:srgbClr val="ea7d72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ятно 1 42">
            <a:hlinkClick r:id="rId32" action="ppaction://hlinksldjump"/>
          </p:cNvPr>
          <p:cNvSpPr/>
          <p:nvPr/>
        </p:nvSpPr>
        <p:spPr>
          <a:xfrm>
            <a:off x="4071960" y="6143760"/>
            <a:ext cx="1214280" cy="42840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ятно 2 43"/>
          <p:cNvSpPr/>
          <p:nvPr/>
        </p:nvSpPr>
        <p:spPr>
          <a:xfrm>
            <a:off x="6000840" y="6143760"/>
            <a:ext cx="1357200" cy="428400"/>
          </a:xfrm>
          <a:prstGeom prst="irregularSeal2">
            <a:avLst/>
          </a:prstGeom>
          <a:solidFill>
            <a:srgbClr val="ffccff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286240"/>
            <a:ext cx="1404720" cy="1320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285840" y="5286240"/>
            <a:ext cx="600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Поэма «Зоя», посвященна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Зое Космодемьянско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9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4572000" cy="3619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9"/>
          <p:cNvSpPr/>
          <p:nvPr/>
        </p:nvSpPr>
        <p:spPr>
          <a:xfrm>
            <a:off x="5214960" y="476280"/>
            <a:ext cx="36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В 1942 г. поэтэсса Маргарита Алигер написала поэму, посвященную  девушке , зверски замученной фашистами, памятник которой вы види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500040" y="4071960"/>
            <a:ext cx="792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оэму и девушку, которой было присвоено звание  Героя Советского Сою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428760" y="55008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366"/>
                </a:solidFill>
                <a:latin typeface="Times New Roman"/>
              </a:rPr>
              <a:t>Александр Данилович Каме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6" descr="watermark_300x"/>
          <p:cNvPicPr/>
          <p:nvPr/>
        </p:nvPicPr>
        <p:blipFill>
          <a:blip r:embed="rId1"/>
          <a:stretch/>
        </p:blipFill>
        <p:spPr>
          <a:xfrm>
            <a:off x="6286680" y="50720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6"/>
          <p:cNvSpPr/>
          <p:nvPr/>
        </p:nvSpPr>
        <p:spPr>
          <a:xfrm>
            <a:off x="4500720" y="285840"/>
            <a:ext cx="428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от композитор почти всю блокаду прожил в бомбоубежищ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театра им. Пушки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ыл единственным концертирующим пианистом, который за 872 д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ал в осажденном городе бол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500 концертов под обстрелами и бомбёжками, в промёрзших зал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и полуразрушенных помеще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Он играл на призывных пункт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и вокзалах, на лучших концертных сценах и в прифронтовых агитбрига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441360" y="4643280"/>
            <a:ext cx="543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ианиста-виртуо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3951360" cy="29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285840" y="4857840"/>
            <a:ext cx="66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Композитор Д. Шостакович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артисты Кировского теат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О. Иордан, С. Корень, В. Лег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В. Кастор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6" descr="watermark_300x"/>
          <p:cNvPicPr/>
          <p:nvPr/>
        </p:nvPicPr>
        <p:blipFill>
          <a:blip r:embed="rId1"/>
          <a:stretch/>
        </p:blipFill>
        <p:spPr>
          <a:xfrm>
            <a:off x="6715080" y="4786200"/>
            <a:ext cx="1152720" cy="1231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4"/>
          <p:cNvSpPr/>
          <p:nvPr/>
        </p:nvSpPr>
        <p:spPr>
          <a:xfrm>
            <a:off x="428760" y="40719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то принял участие в этом концер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10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3638520" cy="2428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10"/>
          <p:cNvSpPr/>
          <p:nvPr/>
        </p:nvSpPr>
        <p:spPr>
          <a:xfrm>
            <a:off x="214200" y="28584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14 сентября 1941г. в Большом зале филармонии состоялся первый в блокадные дни концер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 нем приняли участие «звезды» - писатели, актеры, музыка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11" descr=""/>
          <p:cNvPicPr/>
          <p:nvPr/>
        </p:nvPicPr>
        <p:blipFill>
          <a:blip r:embed="rId3"/>
          <a:stretch/>
        </p:blipFill>
        <p:spPr>
          <a:xfrm>
            <a:off x="4714920" y="142884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357120" y="5500800"/>
            <a:ext cx="63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«Ленинградская» (7) симфония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6" descr="watermark_300x"/>
          <p:cNvPicPr/>
          <p:nvPr/>
        </p:nvPicPr>
        <p:blipFill>
          <a:blip r:embed="rId1"/>
          <a:stretch/>
        </p:blipFill>
        <p:spPr>
          <a:xfrm>
            <a:off x="7643880" y="4664160"/>
            <a:ext cx="1214280" cy="1297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857160" y="357120"/>
            <a:ext cx="3032280" cy="39258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7"/>
          <p:cNvSpPr/>
          <p:nvPr/>
        </p:nvSpPr>
        <p:spPr>
          <a:xfrm>
            <a:off x="4572000" y="620640"/>
            <a:ext cx="424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митрий Дмитриевич Шостакович, написал произведение, посвященное блокадному Ленинграду, которое и сегодня никого не оставляет равнодушн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осажденном городе оно было исполнено 9 августа 1942г. оркестром Ленинградского радиокомит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415800" y="457200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музыкальное произ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63680" y="928800"/>
            <a:ext cx="8216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усть никогда не будет вой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И в небе солнце свети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усть будет добрым каждый д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ля всех людей на све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Л.Се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Управляющая кнопка: назад 2"/>
          <p:cNvSpPr/>
          <p:nvPr/>
        </p:nvSpPr>
        <p:spPr>
          <a:xfrm>
            <a:off x="835812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</a:pathLst>
          </a:custGeom>
          <a:solidFill>
            <a:srgbClr val="5e5884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268280"/>
            <a:ext cx="792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watermark_300x"/>
          <p:cNvPicPr/>
          <p:nvPr/>
        </p:nvPicPr>
        <p:blipFill>
          <a:blip r:embed="rId2"/>
          <a:stretch/>
        </p:blipFill>
        <p:spPr>
          <a:xfrm>
            <a:off x="7634160" y="4786200"/>
            <a:ext cx="1233720" cy="131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643120" y="4786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  <a:ea typeface="Times New Roman"/>
              </a:rPr>
              <a:t>Битва за Моск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&amp;Pcy;&amp;Lcy;&amp;Acy;&amp;Kcy;&amp;Acy;&amp;Tcy;&amp;Ycy; &amp;Vcy;&amp;IEcy;&amp;Lcy;&amp;Icy;&amp;Kcy;&amp;Ocy;&amp;Jcy; &amp;Ocy;&amp;Tcy;&amp;IEcy;&amp;CHcy;&amp;IEcy;&amp;Scy;&amp;Tcy;&amp;Vcy;&amp;IEcy;&amp;Ncy;&amp;Ncy;&amp;Ocy;&amp;Jcy; &amp;Vcy;&amp;Ocy;&amp;Jcy;&amp;Ncy;&amp;Ycy;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214200" y="3357720"/>
            <a:ext cx="2336760" cy="3295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500040" y="2592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бит миф о непобедимости немецкой армии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декабря 1941 г. можно считать поворотным  моментом, причем одним из самых роковых моментов в краткой истории Третьего рейха. Сила и могущество Гитлера достигли своего апогея, начиная с этого момента они пошли на убыль...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 Гальдер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чальник Генерального штаба сухопутных войск Герм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428920" y="314316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каком сражении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ое название носила немецкая операция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928960" y="55720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  <a:ea typeface="Times New Roman"/>
              </a:rPr>
              <a:t>«Тайфун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4429080" y="41432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Сталинградская би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watermark_300x"/>
          <p:cNvPicPr/>
          <p:nvPr/>
        </p:nvPicPr>
        <p:blipFill>
          <a:blip r:embed="rId2"/>
          <a:stretch/>
        </p:blipFill>
        <p:spPr>
          <a:xfrm>
            <a:off x="6643800" y="5143680"/>
            <a:ext cx="136836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142920" y="0"/>
            <a:ext cx="878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ршал В. И. Чуйков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своих воспоминаниях дал следующее описание событий этой битвы: «Несмотря на громадные потери, захватчики лезли напролом. Колонны пехоты на машинах и танках врывались в город. По-видимому, гитлеровцы считали, что участь его решена, и каждый из них стремился как можно скорее достичь центра Волги, центра города и там поживиться трофеями... Наши бойцы... выползали из-под немецких танков, чаще всего раненые, на следующий рубеж, где их принимали, объединяли в подразделения, снабжали, главным образом боеприпасами, и снова бросали в бой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214880" y="33577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с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4" descr="&amp;Zcy;&amp;acy;&amp;pcy;&amp;icy;&amp;scy;&amp;kcy;&amp;icy; &amp;Tcy;&amp;ucy;&amp;rcy;&amp;icy;&amp;scy;&amp;tcy;&amp;acy; &quot; &amp;Acy;&amp;rcy;&amp;khcy;&amp;icy;&amp;vcy; &quot; &amp;Pcy;&amp;rcy;&amp;ocy;&amp;iecy;&amp;zcy;&amp;dcy;&amp;ocy;&amp;mcy; &amp;vcy; &amp;Vcy;&amp;ocy;&amp;lcy;&amp;gcy;&amp;ocy;&amp;gcy;&amp;rcy;&amp;acy;&amp;dcy;&amp;iecy;"/>
          <p:cNvPicPr/>
          <p:nvPr/>
        </p:nvPicPr>
        <p:blipFill>
          <a:blip r:embed="rId3"/>
          <a:stretch/>
        </p:blipFill>
        <p:spPr>
          <a:xfrm>
            <a:off x="214200" y="3071880"/>
            <a:ext cx="395316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500720" y="31431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watermark_300x"/>
          <p:cNvPicPr/>
          <p:nvPr/>
        </p:nvPicPr>
        <p:blipFill>
          <a:blip r:embed="rId2"/>
          <a:stretch/>
        </p:blipFill>
        <p:spPr>
          <a:xfrm>
            <a:off x="6215040" y="5286240"/>
            <a:ext cx="1366920" cy="1317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5143680" y="3429000"/>
            <a:ext cx="357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Танковое сражение под Прохоров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Курская би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14200" y="21420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б этом сражении вспоминал участник боя, впоследствии Герой Советского Союз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Григорий Пэнэжко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: «… В памяти остались тяжелые картины… Стоял такой грохот, что перепонки давило, кровь текла из ушей. Сплошной рев моторов, лязганье металла, грохот, взрывы снарядов, дикий скрежет разрываемого железа… От выстрелов в упор сворачивало башни, скручивало орудия, лопалась броня, взрывались танки».  Этот бой стал кульминацией большого с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00040" y="2428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 каком сражении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астью какой битвы оно яв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&amp;Dcy;&amp;iecy;&amp;ncy;&amp;softcy; &amp;pcy;&amp;ocy;&amp;bcy;&amp;iecy;&amp;dcy;&amp;ycy; &amp;vcy; &amp;Kcy;&amp;ucy;&amp;rcy;&amp;scy;&amp;kcy;&amp;ocy;&amp;jcy; &amp;bcy;&amp;icy;&amp;tcy;&amp;vcy;&amp;iecy; &amp;Scy;&amp;vcy;&amp;iecy;&amp;zhcy;&amp;icy;&amp;iecy; &amp;kcy;&amp;ocy;&amp;lcy;&amp;kcy;&amp;ocy;&amp;scy;&amp;tcy;&amp;icy;"/>
          <p:cNvPicPr/>
          <p:nvPr/>
        </p:nvPicPr>
        <p:blipFill>
          <a:blip r:embed="rId3"/>
          <a:stretch/>
        </p:blipFill>
        <p:spPr>
          <a:xfrm>
            <a:off x="214200" y="3500280"/>
            <a:ext cx="4500720" cy="31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28800" y="214200"/>
            <a:ext cx="778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Правительство планировало вывезти из города до 390 000 реб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ольшинство детей эвакуировали на юг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Но именно туда начали своё наступление фашис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По этой причине, около 170 000 девочек и мальчиков пришлось отправить обратно в гор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57880" y="3286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Ленингр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watermark_300x"/>
          <p:cNvPicPr/>
          <p:nvPr/>
        </p:nvPicPr>
        <p:blipFill>
          <a:blip r:embed="rId2"/>
          <a:stretch/>
        </p:blipFill>
        <p:spPr>
          <a:xfrm>
            <a:off x="6357960" y="5143680"/>
            <a:ext cx="1366920" cy="1388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18572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 каком городе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дату первого этапа эваку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643720" y="4000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29 июня 1941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216000" y="3071880"/>
            <a:ext cx="5464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watermark_300x"/>
          <p:cNvPicPr/>
          <p:nvPr/>
        </p:nvPicPr>
        <p:blipFill>
          <a:blip r:embed="rId2"/>
          <a:stretch/>
        </p:blipFill>
        <p:spPr>
          <a:xfrm>
            <a:off x="5857920" y="5000760"/>
            <a:ext cx="1366920" cy="1388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357120" y="285840"/>
            <a:ext cx="857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зовите  3 д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- дата начала операции «Искр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– дата встречи советских подразделений при освобождении Шлиссельбурга и выхода на побережье Ладожского озер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 – дата полного снятия блокады Ленингра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000760" y="2643120"/>
            <a:ext cx="41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12 января 1943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500800" y="32860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18 января 1943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276120" y="2857680"/>
            <a:ext cx="4724640" cy="3000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5357880" y="4000680"/>
            <a:ext cx="350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27 января 1944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357120" y="55720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Пионеры-Геро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watermark_300x"/>
          <p:cNvPicPr/>
          <p:nvPr/>
        </p:nvPicPr>
        <p:blipFill>
          <a:blip r:embed="rId2"/>
          <a:stretch/>
        </p:blipFill>
        <p:spPr>
          <a:xfrm>
            <a:off x="6715080" y="42861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3"/>
          <p:cNvSpPr/>
          <p:nvPr/>
        </p:nvSpPr>
        <p:spPr>
          <a:xfrm>
            <a:off x="214200" y="4357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называют этих герое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3"/>
          <a:stretch/>
        </p:blipFill>
        <p:spPr>
          <a:xfrm>
            <a:off x="274680" y="488880"/>
            <a:ext cx="2162160" cy="308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"/>
          <p:cNvPicPr/>
          <p:nvPr/>
        </p:nvPicPr>
        <p:blipFill>
          <a:blip r:embed="rId4"/>
          <a:stretch/>
        </p:blipFill>
        <p:spPr>
          <a:xfrm>
            <a:off x="6715080" y="500040"/>
            <a:ext cx="219384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5"/>
          <a:stretch/>
        </p:blipFill>
        <p:spPr>
          <a:xfrm>
            <a:off x="2786040" y="662040"/>
            <a:ext cx="350064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admin</cp:lastModifiedBy>
  <dcterms:modified xsi:type="dcterms:W3CDTF">2021-02-15T15:51:20Z</dcterms:modified>
  <cp:revision>280</cp:revision>
  <dc:subject/>
  <dc:title>Слайд 1</dc:title>
</cp:coreProperties>
</file>